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6F5A-E51D-4B2F-A624-3125F4AB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0A33-82C6-4269-824D-2F013FAD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D640-8328-43EA-AD57-A20949CF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E9EA-5980-483F-BA74-9DC9C085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064D-EC79-4F57-99C3-8152EBB1A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17D3-BE02-48D3-9FF6-A250BD1D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3860-FCFB-478F-87C3-67DE0EA4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FD8A-B434-4921-BA07-9485C0C4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E97C-AFAE-46AB-8000-72D7A392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31DB-C72A-4E2D-9969-0537A20D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8A1D-0889-49D3-92B4-A321E932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CAA8-EF03-456F-B49E-274C1B91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5A30-3AE2-4496-B999-38F474E4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8A78-3758-4FD7-A5E9-6C885A27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EF5E-E337-4AD4-A1A0-1A536093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5C65-E2F1-44E5-B654-1B77A63D9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5C91-90CF-4235-ADF5-D04AFF852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E610E-5788-43C4-B439-62F815ECC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B205B-2F47-4AF3-B985-32EA7904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84951-0922-4B8D-B38E-EE9C786A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A8D71-0F27-4F06-ACB1-06F20F8E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ECB8D-18E6-4E0C-85BB-FEE20975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E780-1481-4C8B-816B-1ABA2CF0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BFC7D-01A2-4039-ACF7-B00706A7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0EBE4-70FF-46CB-9374-8EAC2BC9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E0E1C-AAF5-4CB9-997D-72D82C3A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48EA3-663B-411D-AAB0-E32F3A94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49904-0AF0-495D-AA13-B28ABE08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A453F-3986-42D6-B723-B60C877BB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B9FCE-B17E-4473-BEA8-B9B497267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CA6A6-AB1F-417F-8F39-4E7F048A7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1DAE8-650C-41C1-8470-EC8F6135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2C0CE-F16E-46A0-8516-8E727DD7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8B96-02DC-4B52-BFFB-6ACC7436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0CF69-770C-48D4-8E53-56E32087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FED80-2CCD-4528-9136-B93D2BE1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2D6EC-F330-4552-8AE8-9798E13F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F98FE-4C65-410A-BDC5-E2463CF3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9D16E-4388-4039-B348-CF5438AF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81E5D-4C39-4DC7-BFA8-60484524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2D39E-59C7-4170-B25E-024497D6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9970D-4595-4C36-AAA7-CAB031AEA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C8559-BDD3-4395-B38B-52C98B93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33C9D-EFD0-4771-A8EA-BE0DAE25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CBEB-A352-4ACE-8153-D9FB625F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885AF-9CB7-4504-B62C-C4C1C88D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7BB23-C17A-4FA3-B274-FF6029B6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D8AF5-0BC7-491F-B026-B8579545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E76DE-A6A6-43AC-BF9E-B4FD16B1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42C13-C19B-410A-B812-E1B7EB05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A273F-4A0F-436C-B7B7-3DC83E48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A5175-FF21-4BEC-AE4B-0750E486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EDF2A-A5B1-4908-8B57-D67DDEA1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6203B-E198-4EF0-9B3B-8896D74B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79647-EF6E-4274-AB86-E7174C8FA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EE85-5420-4F21-9A05-2B9187F3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86AD7-CEED-40BC-A92A-D88D9DA93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B20F3-1D98-4BB5-801B-1D76C1829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3A34C-9B73-4FE2-B6F7-4662D947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09E55-7551-49DA-B4BE-9C81D673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BC8B3-309F-4113-A766-363A0117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6C07C-81D0-476C-A8EA-F2546E44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09B9C-9160-473B-8753-CF29EC57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93D8B-AB3F-45CB-BBC2-8769449E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65ED2-9801-4E03-A7A8-18C1DC2A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85606-3A07-4FED-BB55-0344594B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78B8-AD32-4285-8002-4CACE029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7466F-A031-4CA8-9EDF-28104B76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3AC11-853D-4460-81F4-286C8FCA4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18CAC-EC98-47F7-A0FC-24ABA8F3A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E419C-CBF5-4544-B208-0FE7DA739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74C1F-0675-4E71-8ADA-C3B047CA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3A83C-0B6F-45F1-8CF0-358C4101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49487-E6B6-43BB-9E0F-0F32EFE4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01CEB-8107-4C11-B844-CE508E67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D394C-B6C0-45A4-BA42-AAFEAB7C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229B3-24D0-4C36-86B6-A16E99EA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2009-0DC3-459B-9E08-414BFE95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F620D-FB8F-4623-AC5A-95976D49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C9F4D-549C-424C-B61E-EF1C9976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60335-920F-45D4-9F18-3E4735FB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15720-84FC-46B6-B2BA-03FAFAE0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BD562-396A-4C36-897C-2BBD526D3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3171-EE7E-4F45-A170-9EC36459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6C48-01C0-4E6B-BE7C-F557AF935BB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D8CB-DD52-4AD1-92C0-3C38F4B9CD6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60A0-FC5E-44E9-AD34-FA9C37432BD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34D7-E38D-4BEA-8154-0F3FFBE4092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3DEE-7198-4C1B-8E96-DA7C9746409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CB1F-087F-429F-9B16-F40AC489D6D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A0AE-598F-43D8-8759-5EBB586238F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o.uk/imgres?imgurl=http://www.dvdbeaver.com/film2/DVDReviews28/a%2520paul%2520robeson%2520portraits%2520of%2520the%2520artist/a%2520sanders%2520of%2520the%2520river%2520ROBESON_DISC03-0(1).jpg&amp;imgrefurl=http://www.dvdbeaver.com/film2/DVDReviews28/paul_robeson_portraits_of_the_artist.htm&amp;usg=__2n11rLcwZwbeMeXekfZDRcVcW9E=&amp;h=540&amp;w=720&amp;sz=45&amp;hl=en&amp;start=1&amp;zoom=1&amp;um=1&amp;itbs=1&amp;tbnid=v2FhMOV0EloofM:&amp;tbnh=105&amp;tbnw=140&amp;prev=/images%3Fq%3Dsanders%2Bof%2Bthe%2Briver%26um%3D1%26hl%3Den%26safe%3Dactive%26sa%3DN%26tbs%3Disch:1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google.co.uk/imgres?imgurl=http://en.academic.ru/pictures/enwiki/70/Four_Feathers_1939.jpg&amp;imgrefurl=http://en.academic.ru/dic.nsf/enwiki/2847375&amp;usg=__Ixi-r4J2vQI0eNbp5GTOinZwxQk=&amp;h=621&amp;w=400&amp;sz=128&amp;hl=en&amp;start=7&amp;zoom=1&amp;um=1&amp;itbs=1&amp;tbnid=uaa8dBAvBFQQqM:&amp;tbnh=136&amp;tbnw=88&amp;prev=/images%3Fq%3Dthe%2Bfour%2Bfeathers%2B1939%26um%3D1%26hl%3Den%26safe%3Dactive%26tbs%3Disch:1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google.co.uk/imgres?imgurl=http://img.dailymail.co.uk/i/pix/2008/01_02/zuluL_468x383.jpg&amp;imgrefurl=http://www.dailymail.co.uk/news/article-506654/Cambridge-student-shopped-ex-girlfriend-stealing-priceless-Zulu-pen.html&amp;usg=__wSApwk5HHuqaPgGACg8yhyhCkGU=&amp;h=383&amp;w=468&amp;sz=46&amp;hl=en&amp;start=15&amp;zoom=1&amp;um=1&amp;itbs=1&amp;tbnid=uhrwQodTW2CXaM:&amp;tbnh=105&amp;tbnw=128&amp;prev=/images%3Fq%3DZulu%2Bfilm%26um%3D1%26hl%3Den%26safe%3Dactive%26tbs%3Disch:1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www.google.co.uk/imgres?imgurl=http://images.askmen.com/galleries/model/naomi-campbell/pictures/naomi-campbell-picture-1.jpg&amp;imgrefurl=http://www.askmen.com/celebs/women/models/17_naomi_campbell.html&amp;usg=__XVz1gPr8-vppKZwhLoDL34h8nH4=&amp;h=490&amp;w=376&amp;sz=50&amp;hl=en&amp;start=2&amp;zoom=1&amp;um=1&amp;itbs=1&amp;tbnid=DDk53YzJCX-xUM:&amp;tbnh=130&amp;tbnw=100&amp;prev=/images%3Fq%3Dnaomi%2Bcampbell%26um%3D1%26hl%3Den%26safe%3Dactive%26sa%3DN%26tbs%3Disch:1" TargetMode="External"/><Relationship Id="rId9" Type="http://schemas.openxmlformats.org/officeDocument/2006/relationships/image" Target="../media/image5.jpeg"/><Relationship Id="rId10" Type="http://schemas.openxmlformats.org/officeDocument/2006/relationships/hyperlink" Target="http://www.google.co.uk/imgres?imgurl=http://images.allmoviephoto.com/2006_The_Painted_Veil/2006_the_painted_veil_wallpaper_003.jpg&amp;imgrefurl=http://www.allmoviephoto.com/photo/2006_the_painted_veil_wallpaper_003.html&amp;usg=__B5G9MNFWYXGcDlE_fxZ8SmoVNL8=&amp;h=1024&amp;w=1280&amp;sz=195&amp;hl=en&amp;start=7&amp;zoom=1&amp;um=1&amp;itbs=1&amp;tbnid=AtRhCWoop6OvVM:&amp;tbnh=120&amp;tbnw=150&amp;prev=/images%3Fq%3Dthe%2Bpainted%2Bveil%26um%3D1%26hl%3Den%26safe%3Dactive%26sa%3DN%26tbs%3Disch:1" TargetMode="External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usvetdsp.com/gifs/muslim_girl.jpg&amp;imgrefurl=http://www.usvetdsp.com/&amp;usg=__pugGB6d9lMkm7ND7zHED10WecTU=&amp;h=387&amp;w=288&amp;sz=62&amp;hl=en&amp;start=5&amp;zoom=1&amp;um=1&amp;itbs=1&amp;tbnid=XNu3pTLtBLbcJM:&amp;tbnh=123&amp;tbnw=92&amp;prev=/images%3Fq%3Dmuslim%26um%3D1%26hl%3Den%26safe%3Dactive%26sa%3DN%26tbs%3Disch:1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google.co.uk/imgres?imgurl=http://img.dailymail.co.uk/i/pix/2007/11_02/muslimDM1511_468x310.jpg&amp;imgrefurl=http://www.dailymail.co.uk/news/article-538808/Whites-help-Muslims-feel-home-says-research-group.html&amp;usg=__KtaP--yN2kBBht1bpFloW44uFlQ=&amp;h=310&amp;w=468&amp;sz=33&amp;hl=en&amp;start=4&amp;zoom=1&amp;um=1&amp;itbs=1&amp;tbnid=Eld3nZ7XgF96QM:&amp;tbnh=85&amp;tbnw=128&amp;prev=/images%3Fq%3Dmuslim%26um%3D1%26hl%3Den%26safe%3Dactive%26sa%3DN%26tbs%3Disch:1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images.allmoviephoto.com/2006_The_Painted_Veil/2006_the_painted_veil_wallpaper_003.jpg&amp;imgrefurl=http://www.allmoviephoto.com/photo/2006_the_painted_veil_wallpaper_003.html&amp;usg=__B5G9MNFWYXGcDlE_fxZ8SmoVNL8=&amp;h=1024&amp;w=1280&amp;sz=195&amp;hl=en&amp;start=7&amp;zoom=1&amp;um=1&amp;itbs=1&amp;tbnid=AtRhCWoop6OvVM:&amp;tbnh=120&amp;tbnw=150&amp;prev=/images%3Fq%3Dthe%2Bpainted%2Bveil%26um%3D1%26hl%3Den%26safe%3Dactive%26sa%3DN%26tbs%3Disch: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google.co.uk/imgres?imgurl=http://images.allmoviephoto.com/2006_The_Painted_Veil/2006_the_painted_veil_wallpaper_003.jpg&amp;imgrefurl=http://www.allmoviephoto.com/photo/2006_the_painted_veil_wallpaper_003.html&amp;usg=__B5G9MNFWYXGcDlE_fxZ8SmoVNL8=&amp;h=1024&amp;w=1280&amp;sz=195&amp;hl=en&amp;start=7&amp;zoom=1&amp;um=1&amp;itbs=1&amp;tbnid=AtRhCWoop6OvVM:&amp;tbnh=120&amp;tbnw=150&amp;prev=/images%3Fq%3Dthe%2Bpainted%2Bveil%26um%3D1%26hl%3Den%26safe%3Dactive%26sa%3DN%26tbs%3Disch:1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catchavibe.co.uk/wp-content/uploads/2010/08/Lenny_Henry_08.aspx_.jpg&amp;imgrefurl=http://www.catchavibe.co.uk/lenny-henry/16834/&amp;usg=__0I2GM43-8Ofwi0XPg0n9oJBraNs=&amp;h=320&amp;w=259&amp;sz=11&amp;hl=en&amp;start=3&amp;zoom=1&amp;um=1&amp;itbs=1&amp;tbnid=C_5THdG8drP-7M:&amp;tbnh=118&amp;tbnw=96&amp;prev=/images%3Fq%3Dlenny%2Bhenry%255D%26um%3D1%26hl%3Den%26safe%3Dactive%26tbs%3Disch:1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google.co.uk/imgres?imgurl=http://images.askmen.com/galleries/model/naomi-campbell/pictures/naomi-campbell-picture-1.jpg&amp;imgrefurl=http://www.askmen.com/celebs/women/models/17_naomi_campbell.html&amp;usg=__XVz1gPr8-vppKZwhLoDL34h8nH4=&amp;h=490&amp;w=376&amp;sz=50&amp;hl=en&amp;start=2&amp;zoom=1&amp;um=1&amp;itbs=1&amp;tbnid=DDk53YzJCX-xUM:&amp;tbnh=130&amp;tbnw=100&amp;prev=/images%3Fq%3Dnaomi%2Bcampbell%26um%3D1%26hl%3Den%26safe%3Dactive%26tbs%3Disch:1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google.co.uk/imgres?imgurl=http://cdn.wn.com/pd/df/1a/8e70aa6532cc9e1e03dbcb375348_grande.jpg&amp;imgrefurl=http://article.wn.com/view/2010/04/24/How_theyll_fight_poverty_hunger/&amp;usg=__Xh2e6nST-cSUeXeUabL9BAaYoaw=&amp;h=351&amp;w=468&amp;sz=39&amp;hl=en&amp;start=15&amp;zoom=1&amp;um=1&amp;itbs=1&amp;tbnid=Gbcgp1yhBMBgcM:&amp;tbnh=96&amp;tbnw=128&amp;prev=/images%3Fq%3Dblack%2Bbaby%2Bflies%2Bpoverty%26um%3D1%26hl%3Den%26safe%3Dactive%26tbs%3Disch:1" TargetMode="External"/><Relationship Id="rId6" Type="http://schemas.openxmlformats.org/officeDocument/2006/relationships/image" Target="../media/image20.jpeg"/><Relationship Id="rId7" Type="http://schemas.openxmlformats.org/officeDocument/2006/relationships/hyperlink" Target="http://www.google.co.uk/imgres?imgurl=http://ejpress.org/userfiles/image/youssouf%2520fofana%25202.jpg&amp;imgrefurl=http://www.stormfront.org/forum/t619071/&amp;usg=__Xc5ChSGV2UL9tAZbIfwgnTlq-k8=&amp;h=450&amp;w=340&amp;sz=45&amp;hl=en&amp;start=12&amp;zoom=1&amp;um=1&amp;itbs=1&amp;tbnid=kP_LkCwCa1MdPM:&amp;tbnh=127&amp;tbnw=96&amp;prev=/images%3Fq%3Dblack%2Bgang%26um%3D1%26hl%3Den%26safe%3Dactive%26tbs%3Disch:1" TargetMode="External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blogs.warwick.ac.uk/images/michaelwalford/2008/07/18/knightley_bend_it_like_beckham_1.jpg%3FmaxWidth%3D500&amp;imgrefurl=http://blogs.warwick.ac.uk/michaelwalford/tag/bend_it_like_beckham/&amp;usg=__ur_5YpIPPU8Q_jrGtzI6-yh8UbY=&amp;h=400&amp;w=300&amp;sz=42&amp;hl=en&amp;start=8&amp;zoom=1&amp;um=1&amp;itbs=1&amp;tbnid=QrvLKN4Y7pS4HM:&amp;tbnh=124&amp;tbnw=93&amp;prev=/images%3Fq%3Dbend%2Bit%2Blike%2Bbeckham%26um%3D1%26hl%3Den%26safe%3Dactive%26tbs%3Disch:1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www.google.co.uk/imgres?imgurl=http://www.dartmouth.edu/~lhc/files/images/bride_prejudice.jpg&amp;imgrefurl=http://www.dartmouth.edu/~lhc/events/2006/bollywood.html&amp;usg=__9zBhG_6m-kK4R7SJFE9re0JIf0M=&amp;h=300&amp;w=330&amp;sz=24&amp;hl=en&amp;start=1&amp;zoom=1&amp;um=1&amp;itbs=1&amp;tbnid=co8q6UrDfpxtOM:&amp;tbnh=108&amp;tbnw=119&amp;prev=/images%3Fq%3Dbride%2Band%2Bprejudice%26um%3D1%26hl%3Den%26safe%3Dactive%26tbs%3Disch:1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dvdbeaver.com/film2/DVDReviews28/a%2520paul%2520robeson%2520portraits%2520of%2520the%2520artist/a%2520sanders%2520of%2520the%2520river%2520ROBESON_DISC03-0(1).jpg&amp;imgrefurl=http://www.dvdbeaver.com/film2/DVDReviews28/paul_robeson_portraits_of_the_artist.htm&amp;usg=__2n11rLcwZwbeMeXekfZDRcVcW9E=&amp;h=540&amp;w=720&amp;sz=45&amp;hl=en&amp;start=1&amp;zoom=1&amp;um=1&amp;itbs=1&amp;tbnid=v2FhMOV0EloofM:&amp;tbnh=105&amp;tbnw=140&amp;prev=/images%3Fq%3Dsanders%2Bof%2Bthe%2Briver%26um%3D1%26hl%3Den%26safe%3Dactive%26sa%3DN%26tbs%3Disch:1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google.co.uk/imgres?imgurl=http://en.academic.ru/pictures/enwiki/70/Four_Feathers_1939.jpg&amp;imgrefurl=http://en.academic.ru/dic.nsf/enwiki/2847375&amp;usg=__Ixi-r4J2vQI0eNbp5GTOinZwxQk=&amp;h=621&amp;w=400&amp;sz=128&amp;hl=en&amp;start=7&amp;zoom=1&amp;um=1&amp;itbs=1&amp;tbnid=uaa8dBAvBFQQqM:&amp;tbnh=136&amp;tbnw=88&amp;prev=/images%3Fq%3Dthe%2Bfour%2Bfeathers%2B1939%26um%3D1%26hl%3Den%26safe%3Dactive%26tbs%3Disch:1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google.co.uk/imgres?imgurl=http://img.dailymail.co.uk/i/pix/2008/01_02/zuluL_468x383.jpg&amp;imgrefurl=http://www.dailymail.co.uk/news/article-506654/Cambridge-student-shopped-ex-girlfriend-stealing-priceless-Zulu-pen.html&amp;usg=__wSApwk5HHuqaPgGACg8yhyhCkGU=&amp;h=383&amp;w=468&amp;sz=46&amp;hl=en&amp;start=15&amp;zoom=1&amp;um=1&amp;itbs=1&amp;tbnid=uhrwQodTW2CXaM:&amp;tbnh=105&amp;tbnw=128&amp;prev=/images%3Fq%3DZulu%2Bfilm%26um%3D1%26hl%3Den%26safe%3Dactive%26tbs%3Disch:1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Christie_Brinkley_by_David_Shankbone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en.wikipedia.org/wiki/File:LindaEvangelista.jp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en.wikipedia.org/wiki/File:Laetitia_Casta_1999.jpg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en.wikipedia.org/wiki/File:Gisele_B_edit.jpg" TargetMode="External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hyperlink" Target="http://www.google.co.uk/imgres?imgurl=http://images.askmen.com/galleries/model/naomi-campbell/pictures/naomi-campbell-picture-1.jpg&amp;imgrefurl=http://www.askmen.com/celebs/women/models/17_naomi_campbell.html&amp;usg=__XVz1gPr8-vppKZwhLoDL34h8nH4=&amp;h=490&amp;w=376&amp;sz=50&amp;hl=en&amp;start=2&amp;zoom=1&amp;um=1&amp;itbs=1&amp;tbnid=DDk53YzJCX-xUM:&amp;tbnh=130&amp;tbnw=100&amp;prev=/images%3Fq%3Dnaomi%2Bcampbell%26um%3D1%26hl%3Den%26safe%3Dactive%26sa%3DN%26tbs%3Disch:1" TargetMode="External"/><Relationship Id="rId13" Type="http://schemas.openxmlformats.org/officeDocument/2006/relationships/image" Target="../media/image5.jpeg"/><Relationship Id="rId1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 Level Media Studi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0" name="Picture 5" descr="a%2520sanders%2520of%2520the%2520river%2520ROBESON_DISC03-0(1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29240" y="500040"/>
            <a:ext cx="2305080" cy="17305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8" descr="Four_Feathers_193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380360" y="2565360"/>
            <a:ext cx="1333440" cy="20606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1" descr="zuluL_468x38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929280" y="5000760"/>
            <a:ext cx="1800360" cy="14763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9" descr="naomi-campbell-picture-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072120" y="2571840"/>
            <a:ext cx="1096920" cy="14256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7" descr="2006_the_painted_veil_wallpaper_003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714920" y="35712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3"/>
          <p:cNvPicPr/>
          <p:nvPr/>
        </p:nvPicPr>
        <p:blipFill>
          <a:blip r:embed="rId12"/>
          <a:stretch/>
        </p:blipFill>
        <p:spPr>
          <a:xfrm>
            <a:off x="4572000" y="1785960"/>
            <a:ext cx="128592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uslim Represent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ooking through the daily papers, what is the dominant representation of Muslims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4508640"/>
            <a:ext cx="1184400" cy="158436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64000" y="4869000"/>
            <a:ext cx="2016000" cy="133812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3564000" y="3933720"/>
            <a:ext cx="1228680" cy="9432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6"/>
          <a:stretch/>
        </p:blipFill>
        <p:spPr>
          <a:xfrm>
            <a:off x="4788000" y="3710160"/>
            <a:ext cx="172872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eptember 11th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ost-colonialism has a particular relevance following the events of 9/11 and the subsequent invasions of Afghanistan and Iraq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s is an example of military imperialism in which the Western powers are intent on imposing ‘democracy’ on Islamic countries in the belief that it is in their best interest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he Painted Veil (2006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t in the 1920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 British doctor takes his wife to live in a small Chinese village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He fights an outbreak of cholera but is hindered by Chinese politic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hinese culture is portrayed as fascinating yet threatening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holera is a metaphor for a deep sickness in the country that only a British doctor can comba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9" name="Picture 5" descr="2006_the_painted_veil_wallpaper_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40720" y="0"/>
            <a:ext cx="1403280" cy="11224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7" descr="2006_the_painted_veil_wallpaper_00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428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Representation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ultural stereotyp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estern culture has often defined itself in relation to the ‘other’ of non-Western culture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e ‘other’ are seen as exotic…exciting…dangerous…romantic…mysterious…threatening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mplex, sophisticated cultures are reduced to a few simple components whose sole function is to serve the interests of the dominant metropolitan cultur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G. Advertisers offer consumers a “taste of the East” or “the mysteries of the Orient”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Alvarado (1987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Representations of black people are founded on negative historical myths from the colonial pas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uggests there are four types of representation for members of the black community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HUMOUROUS – comedian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EXOTIC – model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PITIED – Live Aid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DANGEROUS – inner city gang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5" name="Picture 5" descr="Lenny_Henry_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85080" y="3213000"/>
            <a:ext cx="914400" cy="11239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7" descr="naomi-campbell-picture-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48360" y="3789360"/>
            <a:ext cx="952560" cy="12384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9" descr="8e70aa6532cc9e1e03dbcb375348_grand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740720" y="4724280"/>
            <a:ext cx="1218960" cy="9144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youssouf%2520fofana%2520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20000" y="5373720"/>
            <a:ext cx="91440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tereotyp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ositive and negative stereotypes are often seen in contemporary British media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usicians – jazz, hip-hop and sou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portsmen and wome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omedian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riminal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ocially dysfunctiona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rostitute/sexually promiscuou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stud/pimp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iaspora Identit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Where people experience both a sense of belonging to a cultural group that is ‘other’ to the dominant culture of their country of residence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This sense of alienation or ‘otherness’ is emphasised by a lack in the contemporary media of any cultural representations of their lives or experience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It is not always negativ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Gurinder Chadha – Bend it like Beckham (2002), Bride and Prejudice (2004) – represented Asian culture in film in a non stereotypical way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3" name="Picture 5" descr="knightley_bend_it_like_beckham_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21800" y="0"/>
            <a:ext cx="1222200" cy="16286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7" descr="bride_prejudic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649840"/>
            <a:ext cx="133200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Key question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re ethnic stereotypes challenged or reinforced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Do the contemporary media represent the ethnic diversity of society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ho speaks for whom in the media? Are members of other cultures given the opportunity to represent themselves or are their ideas and opinions filtered by a cultural intermediary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ho do I identify as ‘belonging’ in my culture?  Do I belong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Resident Evil 5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Released March 2009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Central to the game’s controversy is its West Africa local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White heroes, black African villain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Producers had to make changes after criticism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Zombies – connotation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1"/>
          <a:stretch/>
        </p:blipFill>
        <p:spPr>
          <a:xfrm>
            <a:off x="5929200" y="4786200"/>
            <a:ext cx="26863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ultural Imperialism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An important function of the media is in winning the support of people to the interests of the dominant classe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The media also constitute a potential tool for control by dominant Western cultures over those developing countrie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The Western way of life and its economic/political systems can be imposed on other societies as its lifestyle is sold through media products such as film and television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The most dominant culture exporting media products is the USA. Eg Hollywood cinema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This is know as </a:t>
            </a:r>
            <a:r>
              <a:rPr b="1" lang="en-GB" sz="2400" spc="-1" strike="noStrike">
                <a:solidFill>
                  <a:srgbClr val="ffffff"/>
                </a:solidFill>
                <a:latin typeface="Corbel"/>
              </a:rPr>
              <a:t>CULTURAL IMPERIALISM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ost-colonialism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ost European countries, including the UK have a history of military imperialism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y would conquer less developed countries and impose their rule on them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is was usually to ensure a supply of cheap materials from that country to help support the economy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rmer British colonies include India, South Africa, Australia, Jamaica and the USA – at one point, GB ruled half the worl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ost-colonialism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0920" y="1557360"/>
            <a:ext cx="824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These colonies eventually became independent and set up their own government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However, it can be argued that much of the culture of the imperial countries (eg. Their language) still lingers on in the former colonies as a reminder of colonial rule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Also, the process of decolonisation has not prevented the Western powers from tightening their economic grip on the rest of the worl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The wealth of economically developed countries increasingly depends on the cheap labour and raw materials supplied by the Third Worl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ost-colonialism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3" name="Picture 5" descr="a%2520sanders%2520of%2520the%2520river%2520ROBESON_DISC03-0(1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484280"/>
            <a:ext cx="2305080" cy="173052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6"/>
          <p:cNvSpPr/>
          <p:nvPr/>
        </p:nvSpPr>
        <p:spPr>
          <a:xfrm>
            <a:off x="3348000" y="1773360"/>
            <a:ext cx="30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unders of the River’ (1935) portrayed ideologies naturalising colonis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Picture 8" descr="Four_Feathers_193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80360" y="2565360"/>
            <a:ext cx="1333440" cy="206064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9"/>
          <p:cNvSpPr/>
          <p:nvPr/>
        </p:nvSpPr>
        <p:spPr>
          <a:xfrm>
            <a:off x="3851280" y="3429000"/>
            <a:ext cx="32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our Feathers (1939) suggested the key role of the British army was to bring a civilising influence to India and Egyp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Picture 11" descr="zuluL_468x38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4360" y="4724280"/>
            <a:ext cx="1800000" cy="147636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12"/>
          <p:cNvSpPr/>
          <p:nvPr/>
        </p:nvSpPr>
        <p:spPr>
          <a:xfrm>
            <a:off x="2916360" y="573408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ulu (1964) represented the Zulu tribe in Africa as violent sava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3"/>
          <p:cNvSpPr/>
          <p:nvPr/>
        </p:nvSpPr>
        <p:spPr>
          <a:xfrm flipV="1">
            <a:off x="2987640" y="2707920"/>
            <a:ext cx="7207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4"/>
          <p:cNvSpPr/>
          <p:nvPr/>
        </p:nvSpPr>
        <p:spPr>
          <a:xfrm>
            <a:off x="2484360" y="5373720"/>
            <a:ext cx="8636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15"/>
          <p:cNvSpPr/>
          <p:nvPr/>
        </p:nvSpPr>
        <p:spPr>
          <a:xfrm flipV="1">
            <a:off x="5724360" y="4581000"/>
            <a:ext cx="165600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5" descr="3"/>
          <p:cNvPicPr/>
          <p:nvPr/>
        </p:nvPicPr>
        <p:blipFill>
          <a:blip r:embed="rId1"/>
          <a:stretch/>
        </p:blipFill>
        <p:spPr>
          <a:xfrm>
            <a:off x="250920" y="333360"/>
            <a:ext cx="5761080" cy="619128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6"/>
          <p:cNvSpPr/>
          <p:nvPr/>
        </p:nvSpPr>
        <p:spPr>
          <a:xfrm>
            <a:off x="6877080" y="836640"/>
            <a:ext cx="151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Ideology suggests that black skin is undesirable and white skin is desir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6443640" y="4149720"/>
            <a:ext cx="248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Images like this helped reinforce a sense of superiority of colonising populations and marginality of the colonised African countri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8"/>
          <p:cNvSpPr/>
          <p:nvPr/>
        </p:nvSpPr>
        <p:spPr>
          <a:xfrm flipH="1">
            <a:off x="5219640" y="3141720"/>
            <a:ext cx="1944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9"/>
          <p:cNvSpPr/>
          <p:nvPr/>
        </p:nvSpPr>
        <p:spPr>
          <a:xfrm>
            <a:off x="5364000" y="5373720"/>
            <a:ext cx="100836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ost-Colonialism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ost-colonialism does not emphasise a new, technologically inter-related media world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ut the importance of the cultural, economic, political and military dominance of the pas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absence of non-white images in the media visually suggests a dominance of white cultur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5" descr="220px-Christie_Brinkley_by_David_Shankbo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33360"/>
            <a:ext cx="2095560" cy="27147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" descr="LindaEvangelist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24720" y="189000"/>
            <a:ext cx="1455840" cy="28810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9" descr="220px-Laetitia_Casta_199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64000" y="549360"/>
            <a:ext cx="1646280" cy="2305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1" descr="210px-Gisele_B_edit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4000" y="3284640"/>
            <a:ext cx="2000160" cy="26668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3" descr="10. Carolyn Murphy - $US3 million (3.75 million)"/>
          <p:cNvPicPr/>
          <p:nvPr/>
        </p:nvPicPr>
        <p:blipFill>
          <a:blip r:embed="rId9"/>
          <a:stretch/>
        </p:blipFill>
        <p:spPr>
          <a:xfrm>
            <a:off x="7020000" y="3860640"/>
            <a:ext cx="1752480" cy="2197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5" descr="9. Miranda Kerr - $US3 million (3.75 million)"/>
          <p:cNvPicPr/>
          <p:nvPr/>
        </p:nvPicPr>
        <p:blipFill>
          <a:blip r:embed="rId10"/>
          <a:stretch/>
        </p:blipFill>
        <p:spPr>
          <a:xfrm>
            <a:off x="3203640" y="404640"/>
            <a:ext cx="1706400" cy="25592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7" descr="Miranda Kerr"/>
          <p:cNvPicPr/>
          <p:nvPr/>
        </p:nvPicPr>
        <p:blipFill>
          <a:blip r:embed="rId11"/>
          <a:stretch/>
        </p:blipFill>
        <p:spPr>
          <a:xfrm>
            <a:off x="4643280" y="3429000"/>
            <a:ext cx="1941840" cy="29653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9" descr="naomi-campbell-picture-1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556000" y="3789360"/>
            <a:ext cx="18842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Orientalism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00000" y="15573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dward Said (1978) – a key text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ritique of Western representations of Eastern cultur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on-Western cultures are represented through Western eyes largely because of the impact of cultural imperialism through the power of Western media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t can be argued that whenever Islam is represented, it is shown through a Western perspective that usually fails to understand the nature and complexity of Islamic belief and cultur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stead, it reduces it to a few stereotypical characteristic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 this way, the sense of oppression is just as great as if the colonies still existed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3:57:38Z</dcterms:created>
  <dc:creator>gbrolly940</dc:creator>
  <dc:description/>
  <dc:language>en-US</dc:language>
  <cp:lastModifiedBy>gbrolly940</cp:lastModifiedBy>
  <dcterms:modified xsi:type="dcterms:W3CDTF">2010-11-18T10:52:30Z</dcterms:modified>
  <cp:revision>36</cp:revision>
  <dc:subject/>
  <dc:title>Post-Colonialism</dc:title>
</cp:coreProperties>
</file>